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769A-4EFF-4F5F-BC6C-9560DA2DC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8F8-3FB9-4636-8FB8-65481B65AA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0CA-A309-4043-A3F6-B98EE48F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D59-E7BB-4507-AE9F-F052D4DA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AC8-F656-4071-8FE8-C7980676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220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42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504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220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42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16D-688B-4AA6-B97B-2694B4B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EE2-B987-4E74-B750-66D80A1C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B741-5382-4107-8591-6B4EC22E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ED4-9E9D-4B71-9EE3-D8E85531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68CE-AFBF-4A1C-AEF4-6F9BC93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2F53-F4DC-4BB8-8661-5F3F355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50480" y="406440"/>
            <a:ext cx="807732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93A-A32B-41B0-9903-64F7205E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0F56-F098-4D09-B314-7ECCEA4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F2E-5BE2-4EE3-A8DF-EC5E083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A9E0-5797-44F0-85FB-445F017B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65DC-2AC5-4C0A-843F-C149F369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F077-8B8E-4DD0-AF25-3702B8AD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880-EE4F-495A-B648-E6D1E914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220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42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504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220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42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E6F-387F-4B2C-89C6-B2B2F208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C3BB-73A2-4A84-9B1B-2D6DCD59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88D7-7F4E-47BD-98F0-20746B19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7AD5-E977-4BEC-ACAC-148272B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D2B5-4D33-4C5A-A715-A8CB4E7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7EDB-7BCA-45CD-B3D0-4B1653F9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F45-8E1A-42CF-8142-3165E7ED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50480" y="406440"/>
            <a:ext cx="807732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DC3B7-8BED-48C9-A83D-634EDE7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D59C-FB30-4413-812F-18EBEE4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E316F-0DCC-43D7-AE24-9732911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0FD7-3278-406C-B316-87175EC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EDA7-7C7D-4046-825A-3FC77615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1BB05-0B08-4C82-B866-50F4828D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220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942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0504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220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942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AF7A-6FFC-4EA2-9D8A-F8E0C9BB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FCB1-9188-43EF-A8B9-B8D025C9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AE24-368E-4454-8AC0-BDD31DEE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CF20-08D8-42F8-A4A4-EADE524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FB8-2262-47EF-B5E8-2F24065E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E5B6E-9A8C-41E6-9712-AB1BACAB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A8F8E-8F98-49F4-B110-CBEB1C80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50480" y="406440"/>
            <a:ext cx="807732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B680-152E-475D-8CA0-C3FFD2D9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88F8A-C787-42F3-838D-499A3B9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38B6-131E-468C-8B2C-A01CB50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76B6-F8EF-4E2E-AC12-A3184345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6434-5017-4A56-A60B-6E6F6420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6433-7DFD-4684-906B-8883E240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220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94280" y="203184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504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220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94280" y="4557960"/>
            <a:ext cx="230616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B4DCA-3C91-439D-B227-4C1B9979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BAB-A170-4182-9C93-0080CA5B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50480" y="406440"/>
            <a:ext cx="8077320" cy="68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19C-0090-47EA-84E8-EC8B067B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6E4-42E3-422D-9B3A-3C2B270B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1040" y="455796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36A-0F20-485E-8D8E-3BF46922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048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1040" y="2031840"/>
            <a:ext cx="349524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50480" y="4557960"/>
            <a:ext cx="716292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EDE-D493-4CCB-A8CF-0800AD1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9353520" y="0"/>
            <a:ext cx="812880" cy="762012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065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1108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160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8701920" y="1159920"/>
            <a:ext cx="2116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16200000">
            <a:off x="7770600" y="4546440"/>
            <a:ext cx="3978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79080" y="6858000"/>
            <a:ext cx="761760" cy="6602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5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B032-C694-41A0-9E08-40AC7EB61C64}" type="slidenum">
              <a:rPr b="0" lang="en-US" sz="35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35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380880" cy="762012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81108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160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ffffff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 rot="16200000">
            <a:off x="8701920" y="1159920"/>
            <a:ext cx="2116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7770600" y="4546440"/>
            <a:ext cx="3978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9379080" y="6858000"/>
            <a:ext cx="761760" cy="6602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5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2AEF-1609-480A-9FC0-9AD94AFB7AE4}" type="slidenum">
              <a:rPr b="0" lang="en-US" sz="35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9353520" y="0"/>
            <a:ext cx="812880" cy="762012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380880" cy="7620120"/>
          </a:xfrm>
          <a:prstGeom prst="rect">
            <a:avLst/>
          </a:prstGeom>
          <a:solidFill>
            <a:srgbClr val="6f6f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065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1108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160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6200000">
            <a:off x="8701920" y="1159920"/>
            <a:ext cx="2116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 rot="16200000">
            <a:off x="7770600" y="4546440"/>
            <a:ext cx="3978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379080" y="6858000"/>
            <a:ext cx="761760" cy="6602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5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375D-8F14-4559-B645-9DA65D2B1FDC}" type="slidenum">
              <a:rPr b="0" lang="en-US" sz="35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9353520" y="0"/>
            <a:ext cx="812880" cy="7620120"/>
          </a:xfrm>
          <a:prstGeom prst="rect">
            <a:avLst/>
          </a:prstGeom>
          <a:solidFill>
            <a:srgbClr val="353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5672160"/>
            <a:ext cx="9410760" cy="194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050480" y="2031840"/>
            <a:ext cx="71629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065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1108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160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2092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000000"/>
              </a:buClr>
              <a:buFont typeface="Wingdings 2" charset="2"/>
              <a:buChar char="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6200000">
            <a:off x="8701920" y="1159920"/>
            <a:ext cx="2116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 rot="16200000">
            <a:off x="7770600" y="4546440"/>
            <a:ext cx="3978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379080" y="6858000"/>
            <a:ext cx="761760" cy="660240"/>
          </a:xfrm>
          <a:prstGeom prst="rect">
            <a:avLst/>
          </a:prstGeom>
          <a:noFill/>
          <a:ln w="0">
            <a:noFill/>
          </a:ln>
        </p:spPr>
        <p:txBody>
          <a:bodyPr lIns="27360" rIns="27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500" spc="-1" strike="noStrike">
                <a:solidFill>
                  <a:srgbClr val="8e8e9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7FA-077B-4F1E-A983-998B2150D8E6}" type="slidenum">
              <a:rPr b="0" lang="en-US" sz="3500" spc="-1" strike="noStrike">
                <a:solidFill>
                  <a:srgbClr val="8e8e94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s://forms.yandex.ru/u/62457dc4b75d52a6fc200e34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880560"/>
            <a:ext cx="903456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entury Schoolbook"/>
              </a:rPr>
              <a:t>Профессиональная компетентность учителя.</a:t>
            </a:r>
            <a:br>
              <a:rPr sz="6600"/>
            </a:br>
            <a:r>
              <a:rPr b="0" lang="ru-RU" sz="5400" spc="-1" strike="noStrike">
                <a:solidFill>
                  <a:srgbClr val="ffffff"/>
                </a:solidFill>
                <a:latin typeface="Century Schoolbook"/>
              </a:rPr>
              <a:t> Качества, необходимые учителям. </a:t>
            </a:r>
            <a:endParaRPr b="0" lang="en-US" sz="5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47240" y="4673160"/>
            <a:ext cx="82472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200" spc="-1" strike="noStrike">
                <a:solidFill>
                  <a:srgbClr val="d9d9d9"/>
                </a:solidFill>
                <a:latin typeface="Century Schoolbook"/>
              </a:rPr>
              <a:t>Трегубенко Светлана Васильевна, заместитель директора по УВР МОАУ «Покровская СОШ» 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r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200" spc="-1" strike="noStrike">
                <a:solidFill>
                  <a:srgbClr val="d9d9d9"/>
                </a:solidFill>
                <a:latin typeface="Century Schoolbook"/>
              </a:rPr>
              <a:t>Новосергиевского района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r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200" spc="-1" strike="noStrike">
                <a:solidFill>
                  <a:srgbClr val="d9d9d9"/>
                </a:solidFill>
                <a:latin typeface="Century Schoolbook"/>
              </a:rPr>
              <a:t>Апрель 2022 года  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1008000" y="2095560"/>
            <a:ext cx="8786880" cy="5102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655560" y="295200"/>
            <a:ext cx="9282240" cy="12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0200" y="345600"/>
            <a:ext cx="916128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ЦЕННОСТИ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08000" y="2039400"/>
            <a:ext cx="8858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9560" y="-4989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Schoolbook"/>
              </a:rPr>
              <a:t>Принципы: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39560" y="767880"/>
            <a:ext cx="9212400" cy="6642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entury Schoolbook"/>
              </a:rPr>
              <a:t>индивидуальный подход – отношение к каждому учащемуся как к индивидуальности, обладающему своим «совершенством».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entury Schoolbook"/>
              </a:rPr>
              <a:t>учение на основе собственной мотивации и ответственности учащегося за результат;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entury Schoolbook"/>
              </a:rPr>
              <a:t>организация осмысленной, самостоятельной продуктивной деятельности учащегося в соответствии с его интересами и способностями;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entury Schoolbook"/>
              </a:rPr>
              <a:t>учебный материал должен быть приближен к интересам и потребностям учащихся;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entury Schoolbook"/>
              </a:rPr>
              <a:t>система оценивания должна быть понятной учащемуся и служить средством своего самообразования.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50480" y="406440"/>
            <a:ext cx="807732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 Schoolbook"/>
              </a:rPr>
              <a:t>Цел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50480" y="2031840"/>
            <a:ext cx="7162920" cy="4835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201600" indent="-201600" algn="just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 процессе обучения помочь учащимся овладеть ключевыми компетенциями, владение которыми позволяет быть успешным в современном обществе, в своей профессиональной, личной и общественной жизни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22120" y="1738440"/>
            <a:ext cx="9937800" cy="5526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8880" y="268200"/>
            <a:ext cx="91612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рофессиональные качества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93760" y="1809720"/>
            <a:ext cx="986616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entury Schoolbook"/>
              </a:rPr>
              <a:t>Доброжелательно и заинтересованно относиться к учащимся;</a:t>
            </a:r>
            <a:endParaRPr b="0" lang="en-US" sz="25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entury Schoolbook"/>
              </a:rPr>
              <a:t>Быть готовым принимать конструктивную критику от коллег и учащихся, вносить соответствующие коррективы в свою деятельность;</a:t>
            </a:r>
            <a:endParaRPr b="0" lang="en-US" sz="25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entury Schoolbook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25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Century Schoolbook"/>
              </a:rPr>
              <a:t>Иметь развитую способность к критике и рефлексии;</a:t>
            </a:r>
            <a:endParaRPr b="0" lang="en-US" sz="2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507960" y="1809720"/>
            <a:ext cx="9398160" cy="5102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1960" y="824040"/>
            <a:ext cx="91612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Профессиональные качества</a:t>
            </a:r>
            <a:endParaRPr b="0" lang="en-US" sz="6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7960" y="1860120"/>
            <a:ext cx="9353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Воздерживаться от роли кладезя мудрости и знания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Понимать других людей, имеющих иные ценности, интересы и способности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Быть открытым для любых мнений учащихся по обсуждаемому вопросу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Спокойно реагировать на едкие замечания в свой адрес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Иметь собственную позицию и свою манеру обучения, не быть безликим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Уметь делиться с учащимися своими мыслями и чувствами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507960" y="1809720"/>
            <a:ext cx="9398160" cy="5102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9560" y="738360"/>
            <a:ext cx="91612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Профессиональные качества</a:t>
            </a:r>
            <a:endParaRPr b="0" lang="en-US" sz="6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07960" y="1860120"/>
            <a:ext cx="9353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Schoolbook"/>
              </a:rPr>
              <a:t>Демонстрировать компетентное поведение – собственную ответственность за результат, любознательность, способность к кооперации и диалогу и т. п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Schoolbook"/>
              </a:rPr>
              <a:t>Демонстрировать увлеченность своим предметом;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entury Schoolbook"/>
              </a:rPr>
              <a:t>Использовать четкий, понятный, гибкий язык с образными выражениями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21800" y="309600"/>
            <a:ext cx="88059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Пути развития профессиональной компетентности педагог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7960" y="1809360"/>
            <a:ext cx="9180720" cy="452124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 fontScale="97000"/>
          </a:bodyPr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бота в методических объединениях, творческих группа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новационная деятельность, освоение новых педагогических технологий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азличные формы педагогической поддержк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ктивное участие в педагогических конкурсах и фестивалях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рансляция собственного педагогического опыт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5000"/>
              </a:lnSpc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спользование ИКТ и др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195480" indent="-19548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4720" y="309600"/>
            <a:ext cx="88059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Этапы формирования профессиональной компетентност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50880" y="1952640"/>
            <a:ext cx="8950320" cy="528624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амоанализ и осознание необходимости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ланирование саморазвития (цели, задачи, пути решения)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амопроявление, анализ, самокорректировк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8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4720" y="666720"/>
            <a:ext cx="88059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РОЛЬ    ПОРТФОЛИ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22160" y="2095200"/>
            <a:ext cx="8950320" cy="454500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дним из наиболее современных методов профессионального развития является метод «Портфолио»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Он предназначен для того, чтоб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Century Schoolbook"/>
              </a:rPr>
              <a:t>систематизировать опыт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накапливаемый специалистом, его знания, </a:t>
            </a:r>
            <a:r>
              <a:rPr b="1" lang="ru-RU" sz="2800" spc="-1" strike="noStrike">
                <a:solidFill>
                  <a:srgbClr val="660033"/>
                </a:solidFill>
                <a:latin typeface="Century Schoolbook"/>
              </a:rPr>
              <a:t>четче определить направления его развития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, а также </a:t>
            </a:r>
            <a:r>
              <a:rPr b="1" lang="ru-RU" sz="2800" spc="-1" strike="noStrike">
                <a:solidFill>
                  <a:srgbClr val="660033"/>
                </a:solidFill>
                <a:latin typeface="Century Schoolbook"/>
              </a:rPr>
              <a:t>сделать более объективной оценку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его профессионального уровн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8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1" name="Picture 4" descr="p310-1"/>
          <p:cNvPicPr/>
          <p:nvPr/>
        </p:nvPicPr>
        <p:blipFill>
          <a:blip r:embed="rId1"/>
          <a:stretch/>
        </p:blipFill>
        <p:spPr>
          <a:xfrm>
            <a:off x="6880320" y="5340240"/>
            <a:ext cx="2643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93440" y="523800"/>
            <a:ext cx="88059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Портфолио учител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5040" y="1952280"/>
            <a:ext cx="9307440" cy="454500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/>
          </a:bodyPr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92a9b9"/>
                </a:solidFill>
                <a:latin typeface="Century Schoolbook"/>
              </a:rPr>
              <a:t>Портфолио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едагога-это набор материалов, демонстрирующий умение учителя решать задачи своей профессиональной деятельности, выбирать стратегию и тактику профессионального поведения и предназначенный для оценки уровня профессионализма работни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0000"/>
              </a:lnSpc>
              <a:spcBef>
                <a:spcPts val="1551"/>
              </a:spcBef>
              <a:spcAft>
                <a:spcPts val="224"/>
              </a:spcAft>
              <a:buClr>
                <a:srgbClr val="6f6f74"/>
              </a:buClr>
              <a:buSzPct val="80000"/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600" y="50760"/>
            <a:ext cx="700884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чем современному педагогу нужно быть компетентным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0" y="2166840"/>
            <a:ext cx="1015992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93760" y="2166480"/>
            <a:ext cx="967896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entury Schoolbook"/>
              </a:rPr>
              <a:t>Существенные перемены в образовании невозможны без кардинальных изменений профессионального сознания учителя.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entury Schoolbook"/>
              </a:rPr>
              <a:t>Компетентностный подход в российской школе требует наличия профессиональной компетентности педагога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7534440" y="9360"/>
            <a:ext cx="26049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6880" y="1937880"/>
            <a:ext cx="478980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Учитель должен владеть теми компетенциями, которым он обучает!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35" name="Рисунок 1" descr=""/>
          <p:cNvPicPr/>
          <p:nvPr/>
        </p:nvPicPr>
        <p:blipFill>
          <a:blip r:embed="rId1"/>
          <a:stretch/>
        </p:blipFill>
        <p:spPr>
          <a:xfrm>
            <a:off x="5224320" y="1073160"/>
            <a:ext cx="4680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100710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Основные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к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лючевые компетенции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 современного учителя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36680" y="1523880"/>
            <a:ext cx="9215280" cy="585792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140000"/>
              </a:lnSpc>
              <a:spcAft>
                <a:spcPts val="337"/>
              </a:spcAft>
              <a:buClr>
                <a:srgbClr val="cc0000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учиться вместе с учениками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4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4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мотивировать учащихся, включая их в разнообразные виды деятельности, позволяющие наработать им требуемые компетенции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4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52160"/>
            <a:ext cx="97156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Основные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к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лючевые компетенции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 современного учителя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93760" y="1738440"/>
            <a:ext cx="9572400" cy="541800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5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Владеть исследовательским мышлением, умея организовать исследовательскую работу учащихся и руководить ею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02628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Основные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к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лючевые компетенции</a:t>
            </a:r>
            <a:r>
              <a:rPr b="1" lang="ru-RU" sz="3600" spc="-1" strike="noStrike">
                <a:solidFill>
                  <a:srgbClr val="ffffff"/>
                </a:solidFill>
                <a:latin typeface="Century Schoolbook"/>
              </a:rPr>
              <a:t> современного учителя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21760" y="1666440"/>
            <a:ext cx="9937800" cy="571500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8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80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8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еть осуществлять рефлексию своей деятельности и своего поведения и уметь организовать ее у учащихся в процессе учебных занятий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80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8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еть организовать понятийную работу учащихся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80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8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меть вести занятия в режиме диалога и дискуссии, создавая атмосферу, в которой учащиеся хотели бы высказать свои сомнения, мнения и точки зрения на обсуждаемый предмет, дискутируя не только между собой, но и с учителем, принимая то, что собственная точка зрения может быть также подвергнута сомнению и критике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80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8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ладеть компьютерными технологиями и использовать их в учебном процессе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64720" y="666720"/>
            <a:ext cx="88059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Информационная компетентность</a:t>
            </a:r>
            <a:r>
              <a:rPr b="0" lang="ru-RU" sz="3600" spc="-1" strike="noStrike">
                <a:solidFill>
                  <a:srgbClr val="9b7362"/>
                </a:solidFill>
                <a:latin typeface="Century Schoolbook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93400" y="2095560"/>
            <a:ext cx="9644040" cy="552456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ладение навыками работы с информацией, представленной в электронном вид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знание и умение использовать рациональные методы поиска и хранения информации в современных информационных массив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умение представить информацию в Интерн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ладение навыками организации и проведения уроков и внеклассных мероприятий с использованием теле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умение организовать самостоятельную работу учащихся посредством Интернет-технологи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ладение навыками использования телекоммуникационных технологий по конкретному предмету, с учетом его специф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6880" y="425160"/>
            <a:ext cx="9361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ерий оценки профессиональных компетенц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6880" y="1217160"/>
            <a:ext cx="9722160" cy="625788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 u="sng">
                <a:solidFill>
                  <a:srgbClr val="67aabf"/>
                </a:solidFill>
                <a:uFillTx/>
                <a:latin typeface="Arial"/>
                <a:hlinkClick r:id="rId1"/>
              </a:rPr>
              <a:t>https://forms.yandex.ru/u/62457dc4b75d52a6fc200e34/</a:t>
            </a:r>
            <a:r>
              <a:rPr b="0" lang="en-US" sz="2000" spc="-1" strike="noStrike">
                <a:solidFill>
                  <a:srgbClr val="c3aba1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6" name="Рисунок 2" descr=""/>
          <p:cNvPicPr/>
          <p:nvPr/>
        </p:nvPicPr>
        <p:blipFill>
          <a:blip r:embed="rId2"/>
          <a:stretch/>
        </p:blipFill>
        <p:spPr>
          <a:xfrm>
            <a:off x="2527200" y="1793880"/>
            <a:ext cx="56818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93760" y="1738080"/>
            <a:ext cx="9572400" cy="3800520"/>
          </a:xfrm>
          <a:prstGeom prst="rect">
            <a:avLst/>
          </a:prstGeom>
          <a:solidFill>
            <a:srgbClr val="e2e2e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0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зультативность в труде учителя – это наличие качественных изменений (позитивных, прогрессивных и негативных) в психическом развитии учащихся и самого учителя. Эффективность же есть соответствие полученного результата поставленным задачам (здесь близким по содержанию является понятие «успешность»). Педагогическая эффективность есть степень реализации учебных целей с заданными или возможными при условии нейтрализации остальных факторов, воздействующих помимо учителя на достижение поставленных целей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Эффективность – это достижение запланированных положительных результатов. 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2095560"/>
            <a:ext cx="10159920" cy="40179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306360"/>
            <a:ext cx="7743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дагогические компетентности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93760" y="2166480"/>
            <a:ext cx="953928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d9d9d9"/>
                </a:solidFill>
                <a:latin typeface="Century Schoolbook"/>
              </a:rPr>
              <a:t>· </a:t>
            </a: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Самостоятельно учиться;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· Повышать свою квалификацию или полностью переучиваться;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· Быстро оценивать ситуацию и свои возможности;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· Принимать решения и нести за них ответственность;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· Адаптироваться к меняющимся условиям жизни и труда;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· Нарабатывать новые способы деятельности или трансформировать прежние с целью их оптимизации. 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7534440" y="9360"/>
            <a:ext cx="26049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0" y="2095560"/>
            <a:ext cx="10159920" cy="37861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06360"/>
            <a:ext cx="7743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фессиональная компетентность учителя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93760" y="2166480"/>
            <a:ext cx="9539280" cy="39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Century Schoolbook"/>
              </a:rPr>
              <a:t>Компетентность-</a:t>
            </a: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 это знания, умения, навыки, а также способы и приемы их реализации в деятельности, общении, развитии (саморазвитии) личности. 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(Митина Л.М.)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Century Schoolbook"/>
              </a:rPr>
              <a:t>Компетентным</a:t>
            </a: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 считается такой труд учителя, в котором на достаточно высоком уровне осуществляется педагогическая деятельность, педагогическое общение, реализуется личность учителя, достигаются хорошие результаты в обученности и воспитанности школьников. При этом компетентность учителя определяются также соотношением его профессиональных знаний и умений, с одной стороны, и профессиональных позиций, психологических качеств – с другой стороны. 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(Маркова А.К.)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Century Schoolbook"/>
              </a:rPr>
              <a:t>Компетентность-</a:t>
            </a: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 это способность работника качественно и безошибочно выполнить свои функции как в обычных, так и в экстремальных условиях, успешно осваивать новое и быстро адаптироваться к изменившимся условиям. (Веснин В.Р.)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2060"/>
                </a:solidFill>
                <a:latin typeface="Century Schoolbook"/>
              </a:rPr>
              <a:t>Компетентность-</a:t>
            </a:r>
            <a:r>
              <a:rPr b="0" lang="ru-RU" sz="1700" spc="-1" strike="noStrike">
                <a:solidFill>
                  <a:srgbClr val="002060"/>
                </a:solidFill>
                <a:latin typeface="Century Schoolbook"/>
              </a:rPr>
              <a:t> это сложное образование, включающее комплекс знаний, умений, свойств и качеств личности, которые обеспечивают вариативность, оптимальность и эффективность построения учебно-воспитательного процесса. (Адольф В.А.)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7534440" y="9360"/>
            <a:ext cx="26049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0560" y="-3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Schoolbook"/>
              </a:rPr>
              <a:t>Компетентность и компетенц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0000" y="2528640"/>
            <a:ext cx="9279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– </a:t>
            </a:r>
            <a:r>
              <a:rPr b="0" lang="ru-RU" sz="3100" spc="-1" strike="noStrike">
                <a:solidFill>
                  <a:srgbClr val="ffffff"/>
                </a:solidFill>
                <a:latin typeface="Century Schoolbook"/>
              </a:rPr>
              <a:t>это характеристика человека способного эффективно действовать и добиваться требуемого результата. В юридическом смысле – обладающий должностными полномочиями.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01600" indent="-201600">
              <a:lnSpc>
                <a:spcPct val="95000"/>
              </a:lnSpc>
              <a:spcBef>
                <a:spcPts val="1551"/>
              </a:spcBef>
              <a:spcAft>
                <a:spcPts val="224"/>
              </a:spcAft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Компетенции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– это те способности и умения, которые позволяют эффективно действовать и добиваться требуемого результат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55480" y="1174680"/>
            <a:ext cx="8572680" cy="118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Verdana"/>
                <a:ea typeface="Arial"/>
              </a:rPr>
              <a:t>Компетентны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 –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обладающий способность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силой, властью, умением, знанием и т.п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(чтобы сделать то, что требует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1969920"/>
            <a:ext cx="10159920" cy="48787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06360"/>
            <a:ext cx="774396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 профессионально-педагогической компетентности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39760" y="2035080"/>
            <a:ext cx="96804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Социально-психологическиая компетенция,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вязанная с готовностью решать профессиональные задачи, в том числе в режиме развития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Профессионально-коммуникативная компетенция,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определяющая степень успешности педагогического общения и взаимодействия с субъектами образовательного процесса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Общепедагогическая профессиональная компетенция,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включающая в себя психологическую и педагогическую готовность к развертыванию индивидуальных особенностей психологии и психофизиологии познавательных процессов личности; знания основ педагогики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Предметная компетенция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 сфере предметной специальности: знания в области преподаваемого предмета, методики его преподавания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Управленческая компетенция,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.е. владение умениями провоить педагогический анализ, ставить цели, планировать и организовывать деятельность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Рефлексивная компетенция,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.е. умение видеть процесс и результат собственной педагогической деятельности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Информационно-коммуникативная компетенция,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связанная с умением работать в сфере ИК-технологий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Компетенция в сфере инновационной деятельности,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характеризующая учителя как экспериментатора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Century Schoolbook"/>
              </a:rPr>
              <a:t>Креативная компетенция,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т.е. умения учителя выводить деятельность на творческий, исследовательский уровень.</a:t>
            </a: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just">
              <a:lnSpc>
                <a:spcPct val="8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7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7534440" y="9360"/>
            <a:ext cx="26049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93760" y="1724040"/>
            <a:ext cx="9612360" cy="56959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8640" y="237600"/>
            <a:ext cx="916128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фессиональная компетентность учителя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64680" y="1738080"/>
            <a:ext cx="928692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0">
              <a:lnSpc>
                <a:spcPct val="8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140000"/>
              </a:lnSpc>
              <a:spcAft>
                <a:spcPts val="337"/>
              </a:spcAft>
              <a:buClr>
                <a:srgbClr val="000000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Понятие </a:t>
            </a:r>
            <a:r>
              <a:rPr b="0" i="1" lang="en-US" sz="2700" spc="-1" strike="noStrike">
                <a:solidFill>
                  <a:srgbClr val="000000"/>
                </a:solidFill>
                <a:latin typeface="Century Schoolbook"/>
              </a:rPr>
              <a:t>профессиональной компетентности учителя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 можно определит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ь</a:t>
            </a: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 как</a:t>
            </a:r>
            <a:r>
              <a:rPr b="0" lang="en-US" sz="2700" spc="-1" strike="noStrike">
                <a:solidFill>
                  <a:srgbClr val="4d4d4d"/>
                </a:solidFill>
                <a:latin typeface="Century Schoolbook"/>
              </a:rPr>
              <a:t>: </a:t>
            </a: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«владение учителем необходимой суммой знаний, умений и навыков, определяющих сформированность его педагогической деятельности, педагогического общения и личности учителя как носителя определенных ценностей, идеалов и педагогического сознания</a:t>
            </a:r>
            <a:r>
              <a:rPr b="0" lang="en-US" sz="2700" spc="-1" strike="noStrike">
                <a:solidFill>
                  <a:srgbClr val="000099"/>
                </a:solidFill>
                <a:latin typeface="Century Schoolbook"/>
              </a:rPr>
              <a:t>»</a:t>
            </a:r>
            <a:r>
              <a:rPr b="0" lang="en-US" sz="2700" spc="-1" strike="noStrike">
                <a:solidFill>
                  <a:srgbClr val="4d4d4d"/>
                </a:solidFill>
                <a:latin typeface="Century Schoolbook"/>
              </a:rPr>
              <a:t> (Коджаспирова Г. М.). 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722160" y="1881360"/>
            <a:ext cx="8786880" cy="52815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640" y="309240"/>
            <a:ext cx="7751520" cy="10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мпетентностная модель учителя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93440" y="1860120"/>
            <a:ext cx="864396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Модель состоит из элементов: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entury Schoolbook"/>
              </a:rPr>
              <a:t>Ценности, принципы, цели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entury Schoolbook"/>
              </a:rPr>
              <a:t>Профессиональные качества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entury Schoolbook"/>
              </a:rPr>
              <a:t>Ключевые компетентности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entury Schoolbook"/>
              </a:rPr>
              <a:t>Педагогические методы, способы и технологии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Century Schoolbook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entury Schoolbook"/>
              </a:rPr>
              <a:t>Профессиональные позиции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6f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365040" y="2095560"/>
            <a:ext cx="9144000" cy="5186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655560" y="295200"/>
            <a:ext cx="9282240" cy="1262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0200" y="345600"/>
            <a:ext cx="916128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ЦЕННОСТИ</a:t>
            </a:r>
            <a:endParaRPr b="0" lang="en-US" sz="6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2095200"/>
            <a:ext cx="950904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Свобода учащегося быть самим собой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Каждый человек обладает своим </a:t>
            </a:r>
            <a:r>
              <a:rPr b="1" lang="ru-RU" sz="2700" spc="-1" strike="noStrike">
                <a:solidFill>
                  <a:srgbClr val="000099"/>
                </a:solidFill>
                <a:latin typeface="Century Schoolbook"/>
              </a:rPr>
              <a:t>с</a:t>
            </a: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овершенством»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0">
              <a:lnSpc>
                <a:spcPct val="95000"/>
              </a:lnSpc>
              <a:spcAft>
                <a:spcPts val="337"/>
              </a:spcAft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506520" indent="-343080">
              <a:lnSpc>
                <a:spcPct val="95000"/>
              </a:lnSpc>
              <a:spcAft>
                <a:spcPts val="337"/>
              </a:spcAft>
              <a:buClr>
                <a:srgbClr val="000099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entury Schoolbook"/>
              </a:rPr>
              <a:t>Индивидуальное развитие каждого учащегося соответствует его способностям, интересам и возможностям;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5000"/>
              </a:lnSpc>
              <a:spcAft>
                <a:spcPts val="224"/>
              </a:spcAft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vetlana</cp:lastModifiedBy>
  <dcterms:modified xsi:type="dcterms:W3CDTF">2022-04-27T07:13:37Z</dcterms:modified>
  <cp:revision>37</cp:revision>
  <dc:subject/>
  <dc:title>PowerPoint Presentation</dc:title>
</cp:coreProperties>
</file>