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7F58-C922-4E4A-8B4A-37C0A3A36F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ACB0-A110-49E8-BAA1-D5210E597FB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2DF-807B-4205-A73E-2AF7BCA0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604-1BAA-4B45-B461-C1A82A69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B62-1C90-42A2-B6EB-7D540F44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F99-C285-4C6B-9985-12796A9B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1339-CE4E-4276-8BCD-24983982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0CE9-64F5-4B6B-B49D-E5C6B175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4A04-0625-411E-ADA0-9DAFDC5A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5BAC-B25D-4BDF-8A6B-042750DE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7147-CFA4-4CD0-8335-561B9F9D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2BED-A360-4418-BD23-37099E2F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6295-215D-4A17-B069-5B420A52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FD4-301E-4040-B6BC-806DC67E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6DCE-98EF-434D-9E39-8414314F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B0C7-25BE-4639-866D-3E5D43BC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328B-F49E-40AC-B510-1EF1FAA6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11A8-2CD3-461E-BE96-B2607865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4255-DE36-4044-8173-562BEF01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84E-0835-4BA5-AA68-AF6BCE7D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287-852F-447C-98A1-36D6DAC8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2A3-8979-4F61-B725-9B63DCBB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2DA-4A79-4370-8A58-5B3042C1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8C0-03C2-488C-B03E-D4845AA2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5AA-3366-4253-A1FB-40569209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075-EC3A-4F92-A8EE-59906E56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42F5-4D61-4B94-B996-75765AC5E9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5F41-D4A9-48A2-84B2-080D31FBD53C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80629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Новосергиевский район</a:t>
            </a:r>
            <a:br>
              <a:rPr sz="4800"/>
            </a:b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3280" y="1483920"/>
            <a:ext cx="6408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Формирование профессиональных компетенций педагогов через внедрение инновационных образовательных технологий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Лекция: Методология использования современных технологий в образовательном процессе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1 октября 2021 ГОДА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Заместитель директора по УВР МОАУ «Покровская СОШ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. В. Трегубенк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Объект 6" descr=""/>
          <p:cNvPicPr/>
          <p:nvPr/>
        </p:nvPicPr>
        <p:blipFill>
          <a:blip r:embed="rId1"/>
          <a:stretch/>
        </p:blipFill>
        <p:spPr>
          <a:xfrm>
            <a:off x="1440" y="306360"/>
            <a:ext cx="887904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Эпиграф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i="1" lang="ru-RU" sz="3600" spc="-1" strike="noStrike">
                <a:solidFill>
                  <a:srgbClr val="003366"/>
                </a:solidFill>
                <a:latin typeface="Times New Roman"/>
              </a:rPr>
              <a:t>Успех в учении – единственный источник внутренних сил ребенка, рождающих энергию для преодоления трудностей, желания учиться”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. А. Сухомлински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1042920"/>
            <a:ext cx="726588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тодическая тема школы:</a:t>
            </a:r>
            <a:br>
              <a:rPr sz="4000"/>
            </a:b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2782800" y="310500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2811600" y="505764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826920" y="1773360"/>
            <a:ext cx="78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Совершенствование качества образования, обновление содержания и педагогических технологий в условиях работы по ФГОС»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Рисунок 3" descr="hello_html_9f91212.png"/>
          <p:cNvPicPr/>
          <p:nvPr/>
        </p:nvPicPr>
        <p:blipFill>
          <a:blip r:embed="rId1"/>
          <a:stretch/>
        </p:blipFill>
        <p:spPr>
          <a:xfrm>
            <a:off x="457200" y="620640"/>
            <a:ext cx="83628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Объект 3" descr="hello_html_m4dee798.png"/>
          <p:cNvPicPr/>
          <p:nvPr/>
        </p:nvPicPr>
        <p:blipFill>
          <a:blip r:embed="rId1"/>
          <a:stretch/>
        </p:blipFill>
        <p:spPr>
          <a:xfrm>
            <a:off x="250920" y="277920"/>
            <a:ext cx="871380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0151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Рисунок 4" descr="hello_html_3a78acf.png"/>
          <p:cNvPicPr/>
          <p:nvPr/>
        </p:nvPicPr>
        <p:blipFill>
          <a:blip r:embed="rId1"/>
          <a:stretch/>
        </p:blipFill>
        <p:spPr>
          <a:xfrm>
            <a:off x="446040" y="404640"/>
            <a:ext cx="837396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1052280"/>
            <a:ext cx="91440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10151a"/>
              </a:solidFill>
              <a:latin typeface="Times New Roman"/>
            </a:endParaRPr>
          </a:p>
        </p:txBody>
      </p:sp>
      <p:pic>
        <p:nvPicPr>
          <p:cNvPr id="145" name="Рисунок 3" descr="hello_html_4fba3e41.png"/>
          <p:cNvPicPr/>
          <p:nvPr/>
        </p:nvPicPr>
        <p:blipFill>
          <a:blip r:embed="rId1"/>
          <a:stretch/>
        </p:blipFill>
        <p:spPr>
          <a:xfrm>
            <a:off x="250920" y="439560"/>
            <a:ext cx="8785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77560"/>
            <a:ext cx="8229600" cy="61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Анкет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i="1" lang="ru-RU" sz="2000" spc="-1" strike="noStrike">
                <a:solidFill>
                  <a:srgbClr val="003366"/>
                </a:solidFill>
                <a:latin typeface="Times New Roman"/>
              </a:rPr>
              <a:t>Общение с детьми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(отвечайте “ДА” или “НЕТ”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Когда ребенок говорит что-то непонятное, я обычно сразу же его поправляю. ____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Когда ребенок “мямлит”, мне очень хочется его слегка одернуть. ___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Я считаю, что если учитель часто улыбается детям, это мешает его ученикам сосредоточиться. _____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Когда ученик отвечает, меня интересуют, прежде всего его знания, а не эмоции. ___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Если я не согласен с мнением ученика, я об этом говорю прямо. _____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Когда учащиеся несут околесицу, я пытаюсь поставить их на “место”___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Times New Roman"/>
              </a:rPr>
              <a:t>Я бы не хотел оказаться на месте своего ученика во время опроса.____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Если вы набрали больше трех ответов “ДА”, ваши ученики, вероятно, испытывают недостаток положительного внимания, а оно играет не маловажную роль в процессе обучения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05:57:48Z</dcterms:created>
  <dc:creator>User</dc:creator>
  <dc:description/>
  <dc:language>en-US</dc:language>
  <cp:lastModifiedBy>Svetlana</cp:lastModifiedBy>
  <dcterms:modified xsi:type="dcterms:W3CDTF">2021-10-21T09:39:37Z</dcterms:modified>
  <cp:revision>42</cp:revision>
  <dc:subject/>
  <dc:title>ПЕДАГОГИЧЕСКИЙ СОВЕТ</dc:title>
</cp:coreProperties>
</file>